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BBDA-62B9-425B-9E5D-2FC4D6D288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8CE9-A2A3-4709-9CB4-BE60C97396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D695-7DAD-482D-8E5B-632A3780BD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367F-C0B8-4134-8E0E-A919CC9B90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D40F-67E7-42BC-B178-F8FDAB9F63A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2C99-F9CC-40E3-BC89-3FF684187D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8CA3-BDAA-4497-96DD-C079851B7D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5CE1-41F3-4A46-ABA0-4D40B18F21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E7B-8DFE-4BF2-82E8-1FDE557321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F5F1-DBCE-4A6B-A13D-EC451104E2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E798-E2A3-4EDC-B402-687A1B5B12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761A-6942-42C7-B157-EB9DC5C337C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697C-A0F4-4ACA-B1FB-A3D04D612D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CB9A-712A-4E56-89C1-3AE99F63BA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361E-E389-4A19-AF57-F167906F63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1FC4-A356-43D4-AA37-2F7650C7BF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A74D-529A-4856-A42C-550DAB1108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2988-B3A0-44A8-861A-21E2B4FDCA1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6536-222A-496E-A23F-5C67C0B1864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4F5F-81EB-40DB-BFB8-B7A1A1E288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2F0-9004-4920-BEF4-1240740F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A15-B07B-4A9C-8A50-7F07B007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241-509D-4BBC-A559-153B17B6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516-4A93-4039-A894-591305CE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5DB5-1D90-4122-B940-B460ADBE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A14F-E567-4FAC-89BF-6A2703CC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43F4-CE75-4994-8DBC-2847AA48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B87C-509E-4B66-82A4-2D1EDFB2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2925-8BCB-4CDF-870E-BA70505E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DD7E-802D-4596-88D6-EACCF9F3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1C2C-ADBD-4B55-9C92-0A0E3F0A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4CB-BFF1-4B9B-913F-FE7DAD82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17E9-8ED6-41CF-819B-AC21BB92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D00B-0F92-455B-9921-C6654AEA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E1C3-5508-4AD7-A9CC-8AC3FBA6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1D8B-3187-4E95-9ACA-EA927374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FCA6-004A-49C2-86A6-0CF0FB47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5DE2-BB6A-4117-BBEA-527C7029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C36F-4FE2-4DF2-82D4-2895ECC2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38FFD-189D-4E69-A6A7-4CB94AE9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31C8-D314-46C4-9439-68A3932B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4A15-6AD1-4EDF-9706-9B311CE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644-A976-4D87-8A4B-98ED0055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E461-CAD7-4C0B-BC05-D0B81C20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78D9-1FC3-4D6A-A5C8-8141A824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1325-E2B0-49F3-A8A5-020875FE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B30C9-EFF1-4ACD-9856-B053C126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8D0C-D6AE-4D89-AD73-74A269E4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4A2E-F121-4609-BBCB-E53E83A1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992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55640" y="18284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4456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992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55640" y="410148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8514-87FD-4CBA-96BF-3BAAE2AC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B0A-B0C4-4C26-8004-1C0BF795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E09-54F8-4A86-A467-E62F90EF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456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9BE-41D7-42A7-A0DA-CA4F6CC8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E36-5994-4FE8-A6A3-AB985CA1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040" y="410148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F9E-C5B4-483C-BC84-50314169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456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040" y="18284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4560" y="410148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35B-F032-4E11-9245-EA26400D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9B4-527A-40C4-9F14-DA76C87D10F5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644B-610F-4B21-A2C8-B64DD554D851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6D82-CDBD-4384-9BF0-ABA6E3947DDA}" type="slidenum">
              <a:rPr b="0" lang="zh-CN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03160" y="228240"/>
            <a:ext cx="8713800" cy="25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七章 人类活动对生物圈的影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 拟定保护生态环境的计划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圆角矩形 6">
            <a:hlinkClick r:id="rId1" action="ppaction://hlinksldjump"/>
          </p:cNvPr>
          <p:cNvSpPr/>
          <p:nvPr/>
        </p:nvSpPr>
        <p:spPr>
          <a:xfrm>
            <a:off x="4008600" y="270828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导学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菱形 8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菱形 9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圆角矩形 10">
            <a:hlinkClick r:id="rId2" action="ppaction://hlinksldjump"/>
          </p:cNvPr>
          <p:cNvSpPr/>
          <p:nvPr/>
        </p:nvSpPr>
        <p:spPr>
          <a:xfrm>
            <a:off x="4008600" y="352584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前预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圆角矩形 11">
            <a:hlinkClick r:id="rId3" action="ppaction://hlinksldjump"/>
          </p:cNvPr>
          <p:cNvSpPr/>
          <p:nvPr/>
        </p:nvSpPr>
        <p:spPr>
          <a:xfrm>
            <a:off x="4008600" y="4317840"/>
            <a:ext cx="3265200" cy="64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堂探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圆角矩形 12">
            <a:hlinkClick r:id="rId4" action="ppaction://hlinksldjump"/>
          </p:cNvPr>
          <p:cNvSpPr/>
          <p:nvPr/>
        </p:nvSpPr>
        <p:spPr>
          <a:xfrm>
            <a:off x="4008600" y="5902200"/>
            <a:ext cx="3265200" cy="64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圆角矩形 13">
            <a:hlinkClick r:id="rId5" action="ppaction://hlinksldjump"/>
          </p:cNvPr>
          <p:cNvSpPr/>
          <p:nvPr/>
        </p:nvSpPr>
        <p:spPr>
          <a:xfrm>
            <a:off x="4008600" y="5111640"/>
            <a:ext cx="326520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随堂检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9224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1523880" y="16045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一：拟定保护当地生态环境的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哪一项不属于拟定保护生态环境的计划的内容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调查森林面积减少的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分析水土流失的原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调查大气污染、水污染的状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调查当地计划生育政策落实的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3073320" y="277740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922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1523880" y="28468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“拟定保护当地生态环境的计划”活动中，正确的做法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指出有关部门和公民在保护当地生态环境方面应当如何做     ②写出保护当地生态环境的计划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③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小组成员间要分工明确、团结合作                       ④进行实地调查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②③④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③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②④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②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3751200" y="26215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1523880" y="15901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知识点二：退耕还林还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提倡人们“退耕还林还草”的根本目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发展旅游业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发展畜牧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改善生态环境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发展林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要使我国西北地区生态环境的恶化问题得到根本解决，必须实施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退耕还林还草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开垦荒地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过度放牧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建化工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"/>
          <p:cNvSpPr/>
          <p:nvPr/>
        </p:nvSpPr>
        <p:spPr>
          <a:xfrm>
            <a:off x="9559800" y="226620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5456160" y="470916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5518080" y="83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夯实基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1523880" y="18036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某班级为了解当地的生态环境状况，而拟定保护当地生态环境的计划，下列相关说法合理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全班集体行动，分组调查，团结协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可以进行实地调查，也可以到当地环保部门咨询相关生态环境问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每组至少选择一个当地存在的环境问题，写出具体实例和近年来采取的措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各组的调查报告和保护当地生态环境的计划不需要评价讨论，应立即汇报给当地有关部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2103480" y="23263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523880" y="17172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6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哪项是保护当地生态环境的计划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给烟囱安装除尘装置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骑自行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城市垃圾集中处理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以上都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7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人类活动中能保护生态环境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坡地种粮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植树造林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捕杀野生动物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引进外来物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9363240" y="170424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9363240" y="368064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1527120" y="20750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8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拟订保护当地生态环境的计划之前，要事先做哪些工作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植树造林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退耕还林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实地考察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消灭有害动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9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不符合农业生态规律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围湖造田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退耕还草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封山育林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无土栽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3903840" y="23310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8190000" y="428364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7550280" y="44028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1982880" y="927000"/>
            <a:ext cx="8039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0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保护生物圈，人人有责。下列人类活动：①绿化荒山，植树种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②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要致富，砍大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③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若要吃得好，就吃蛙蛇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④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见毒蛇就打死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⑤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退耕还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⑥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提倡“免赠贺卡”、“少用一次性木筷”，其中有益于保护生物圈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②⑥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⑤⑥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③⑥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④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1527120" y="21499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生物圈是生物的共同家园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。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下列关于“人与自然”的态度，正确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类应该去征服自然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类应该对自然听之任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类应该去改造自然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类应该与自然和谐相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6095880" y="271044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1523880" y="20473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2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关于生物圈保护的叙述，正确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为了更好地保护生物圈，必须禁止开发和利用一切野生资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生物圈是我们生活的唯一家园，必须科学合理地开和发利用生物资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生物圈有一定调节能力，人类的活动能加速生物圈的物质循环，起更好的保护作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生物圈Ⅱ号的实验说明人类有能力建造一个适宜人类生活的新生物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2160720" y="183600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1631880" y="643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1523880" y="15598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3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人类活动中，有益于保护生物圈的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①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绿化荒山，植树种草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②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要致富，砍大树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③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若想吃得好，就吃蛙蛇鸟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④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见毒蛇就打死它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⑤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退耕还林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⑥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提倡“免赠贺卡”、“少用一次性木筷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②⑥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⑧④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⑤⑥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	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①④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2160720" y="21265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标题 1"/>
          <p:cNvSpPr/>
          <p:nvPr/>
        </p:nvSpPr>
        <p:spPr>
          <a:xfrm>
            <a:off x="2006640" y="6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"/>
              </a:rPr>
              <a:t>导学目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1754280" y="836640"/>
            <a:ext cx="826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目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1595520" y="1628640"/>
            <a:ext cx="9109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通过分组调查自己周边的环境情况和人们的生活习惯，尝试完成对当地生态环境现状的调查和有关的分析讨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通过讨论和交流，拟定保护生态环境的计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菱形 11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菱形 12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2944440" y="3997440"/>
            <a:ext cx="8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学习重、难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1558800" y="4653000"/>
            <a:ext cx="90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通过讨论和交流，拟定保护生态环境的计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调查自己周边的环境情况和人们的生活习惯，通过讨论和交流，拟定保护生态环境的计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631880" y="643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523880" y="22910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4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叙述不正确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在一个生态系统中，生产者、消费者、分解者是紧密联系、缺一不可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维持生态平衡，就是要维持生态系统内部各种生物的数量相对稳定不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人类所需的资源中，土地和能源是有限的，而水和空气则是取之不尽、用之不竭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生态平衡失调、水土流失、旱涝等自然灾害的根本原因是人类活动的破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6599160" y="1559520"/>
            <a:ext cx="15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527120" y="2162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5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下列关于对自然资源可持续利用的措施中，不正确的是（　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生活垃圾分类处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防止汽车尾气污染，鼓励骑电动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杜绝污染物的随意排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对自然资源要合理开发，重视新能源开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4164120" y="227088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810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"/>
          <p:cNvSpPr/>
          <p:nvPr/>
        </p:nvSpPr>
        <p:spPr>
          <a:xfrm>
            <a:off x="1631880" y="143568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6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去年以来我县县城街道放置了一批有分类标识的垃圾回收箱，要求实行了垃圾分类制，要求居民将垃圾分为两大类﹣﹣可回收垃圾、其它垃圾进行放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请分析回答下列问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8211960" y="428076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1"/>
          <p:cNvSpPr/>
          <p:nvPr/>
        </p:nvSpPr>
        <p:spPr>
          <a:xfrm>
            <a:off x="1631880" y="3333600"/>
            <a:ext cx="883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推广垃圾分类，结果却发现仍然有许多居民没有分类放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下列不属于造成这种现象的原因是（     ）　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A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居民嫌麻烦，没有垃圾分类的习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B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居民每天产生的生活垃圾非常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C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居民的环保意识不强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1830240" y="2923920"/>
            <a:ext cx="728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鱼骨头、菜皮、香蕉皮、用过的餐巾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1527120" y="170676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D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居民不清楚垃圾分类的标准啤酒瓶、一次性塑料杯、鱼骨头、剩菜、香蕉皮、易拉罐、用过的餐巾纸、废电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上述应该放入不可回收垃圾箱的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                                               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上述剩余物中可回收后再利用的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写出一例即可）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在如今丰富的物质生活中，产生了一支“垃圾大军”，影响我们的生活，对生活垃圾的分类处理你能否提出新的方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          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2152800" y="386316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啤酒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"/>
          <p:cNvSpPr/>
          <p:nvPr/>
        </p:nvSpPr>
        <p:spPr>
          <a:xfrm>
            <a:off x="2101680" y="5801400"/>
            <a:ext cx="27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做好宣传工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5372280" y="2115360"/>
            <a:ext cx="30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污染土壤和水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2246400" y="3585240"/>
            <a:ext cx="52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可以节约资源，保护环境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6"/>
          <p:cNvSpPr/>
          <p:nvPr/>
        </p:nvSpPr>
        <p:spPr>
          <a:xfrm>
            <a:off x="1828800" y="1695600"/>
            <a:ext cx="820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4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请你结合所学知识，谈谈废电池的危害：　　（写出一点即可）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5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请你谈谈小区内实施垃圾分类的好处：　　（写出一点即可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              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1830240" y="2595240"/>
            <a:ext cx="864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7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仔细阅读下文，分析回答有关问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在今天的地球上，已经很难找到一块不受人类活动影响的天然乐土了。人类通过狩猎、砍伐森林、使用有毒杀虫剂、扩大耕地、城市扩张、开采矿藏、修路、拦河筑坝等多种方式，使野生动物栖息地急剧减少，环境越来越恶化，动植物种类逐渐减少，许多珍稀动植物濒临灭绝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8108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1627200" y="1556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1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造成人类活动不断扩张的根本原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是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上述资料中，人类活动对生物圈的影响主要是：①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          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  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②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           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                 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（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3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）人类为了自身生存与发展，应有所作为。请拟两条保护环境的有效措施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①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                        　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；②</a:t>
            </a:r>
            <a:r>
              <a:rPr b="0" lang="zh-CN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　　</a:t>
            </a:r>
            <a:r>
              <a:rPr b="0" lang="en-US" sz="3200" spc="-1" strike="noStrike" u="sng">
                <a:solidFill>
                  <a:srgbClr val="232226"/>
                </a:solidFill>
                <a:uFillTx/>
                <a:latin typeface="Arial"/>
                <a:ea typeface="方正兰亭黑简体"/>
              </a:rPr>
              <a:t>                         </a:t>
            </a: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232226"/>
                </a:solidFill>
                <a:latin typeface="Arial"/>
                <a:ea typeface="方正兰亭黑简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2414520" y="144756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人口剧增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3463920" y="2442240"/>
            <a:ext cx="40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环境越来越恶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2279520" y="2998440"/>
            <a:ext cx="47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野生动物栖息地急剧减少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2405160" y="4418640"/>
            <a:ext cx="41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植树造林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6588000" y="441864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不滥用杀虫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3" descr=""/>
          <p:cNvPicPr/>
          <p:nvPr/>
        </p:nvPicPr>
        <p:blipFill>
          <a:blip r:embed="rId1"/>
          <a:stretch/>
        </p:blipFill>
        <p:spPr>
          <a:xfrm>
            <a:off x="3287880" y="1916280"/>
            <a:ext cx="6324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标题 1"/>
          <p:cNvSpPr/>
          <p:nvPr/>
        </p:nvSpPr>
        <p:spPr>
          <a:xfrm>
            <a:off x="19303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菱形 2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菱形 2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1577880" y="1386000"/>
            <a:ext cx="898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知识点一  拟定保护当地生态环境的计划（阅读教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P1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步骤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分组调查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调查目标：校园周围或家庭所在社区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状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调查方法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调查，或到当地环境保护部门咨询，或查阅和收集相关资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写出调查报告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当地某环境问题的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采取的相应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相关的分析与评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1812960" y="328356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生态环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"/>
          <p:cNvSpPr/>
          <p:nvPr/>
        </p:nvSpPr>
        <p:spPr>
          <a:xfrm>
            <a:off x="4086360" y="371052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实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5359320" y="519984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实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菱形 11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菱形 12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1523880" y="1627200"/>
            <a:ext cx="898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写出保护当地生态环境的计划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结合当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变化、资源开发利用情况和经济发展状况等，分析出现生态环境问题的原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提出保护当地生态环境的相关措施与建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汇总报告和计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．注意事项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实地调查时要注意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兰亭黑简体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兰亭黑简体"/>
              </a:rPr>
              <a:t>调查时要集体行动，做到分工明确、团结合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3727440" y="158328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人口数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5727600" y="4021920"/>
            <a:ext cx="28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安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922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前预习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655640" y="1125360"/>
            <a:ext cx="870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知识点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退耕还林还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阅读教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11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退耕还林还草能根本解决的问题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土壤沙化、沙尘暴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实质：结合各地的具体情况，有计划地实施植树种草，恢复植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1847880" y="10476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兰亭黑简体"/>
              </a:rPr>
              <a:t>探究   拟定保护当地生态环境的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1608120" y="1916280"/>
            <a:ext cx="90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下面是在广州街道新设的一组垃圾箱及说明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24" descr="菁优网：http://www.jyeoo.com"/>
          <p:cNvPicPr/>
          <p:nvPr/>
        </p:nvPicPr>
        <p:blipFill>
          <a:blip r:embed="rId1"/>
          <a:stretch/>
        </p:blipFill>
        <p:spPr>
          <a:xfrm>
            <a:off x="2135160" y="2924280"/>
            <a:ext cx="7129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922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1839960" y="1413000"/>
            <a:ext cx="81741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9224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菱形 16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菱形 17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2090880" y="3516840"/>
            <a:ext cx="78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兰亭黑简体"/>
              </a:rPr>
              <a:t>可回收垃圾是指可以再生循环的垃圾；不可回收垃圾指除可回收垃圾之外的垃圾；有害垃圾是指存有对人体健康有害的重金属、有毒的物质或者对环境造成现实危害或者潜在危害的废弃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1808280" y="1353960"/>
            <a:ext cx="88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你知道什么是可回收垃圾、不可回收垃圾、有害垃圾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Calibri Light"/>
              </a:rPr>
              <a:t>课堂探究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1523880" y="1054080"/>
            <a:ext cx="90630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小明在整理房间时，清理出如下物品，它们应分别放入哪个垃圾箱（请填序号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废作业本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汽水易拉罐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生锈铁钉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矿泉水瓶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烂苹果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涂改液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应放入“可回收垃圾箱”的是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应放入“不可回收垃圾箱”的是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应放入“有害垃圾箱”的是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菱形 7">
            <a:hlinkClick r:id="" action="ppaction://hlinkshowjump?jump=firstslide"/>
          </p:cNvPr>
          <p:cNvSpPr/>
          <p:nvPr/>
        </p:nvSpPr>
        <p:spPr>
          <a:xfrm>
            <a:off x="7824960" y="6381720"/>
            <a:ext cx="143964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首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菱形 8">
            <a:hlinkClick r:id="" action="ppaction://hlinkshowjump?jump=lastslide"/>
          </p:cNvPr>
          <p:cNvSpPr/>
          <p:nvPr/>
        </p:nvSpPr>
        <p:spPr>
          <a:xfrm>
            <a:off x="9264600" y="6381720"/>
            <a:ext cx="1440000" cy="4618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Calibri"/>
              </a:rPr>
              <a:t>末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1631880" y="63514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7993440" y="3141720"/>
            <a:ext cx="11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0"/>
          <p:cNvSpPr/>
          <p:nvPr/>
        </p:nvSpPr>
        <p:spPr>
          <a:xfrm>
            <a:off x="8493480" y="3762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8533440" y="4402080"/>
            <a:ext cx="3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01:24:27Z</dcterms:created>
  <dc:creator>Windows 用户</dc:creator>
  <dc:description/>
  <dc:language>en-US</dc:language>
  <cp:lastModifiedBy>Windows 用户</cp:lastModifiedBy>
  <dcterms:modified xsi:type="dcterms:W3CDTF">2018-02-26T10:11:19Z</dcterms:modified>
  <cp:revision>3</cp:revision>
  <dc:subject/>
  <dc:title>PowerPoint 演示文稿</dc:title>
</cp:coreProperties>
</file>